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6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9.jpeg" ContentType="image/jpeg"/>
  <Override PartName="/ppt/media/image48.png" ContentType="image/png"/>
  <Override PartName="/ppt/media/image12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29.jpeg" ContentType="image/jpeg"/>
  <Override PartName="/ppt/media/image44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38.png" ContentType="image/png"/>
  <Override PartName="/ppt/media/image8.jpeg" ContentType="image/jpeg"/>
  <Override PartName="/ppt/media/image39.jpeg" ContentType="image/jpeg"/>
  <Override PartName="/ppt/media/image46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2D90-D299-4763-AE40-92FF8A6B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674-EEE6-4B33-BDF9-3ABFA262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E26-05F8-4143-9FC9-456FF819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ADB-828F-47EF-8CD6-539DE7F9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46A4-2A1C-436D-A6C3-6791EC77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C0CF-EC7D-49B3-95F0-5FB8EFA8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C901-59C4-4F06-8202-B02F996E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C902-FCD1-4BA5-B4A6-D30FDBB1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728C-142E-4A3A-8E99-CD1681E8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89DC-C182-4994-85E2-8C18F0C1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90CF-2639-45DF-BAD4-0387D541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87E-A65F-45BC-B4B3-83C783A4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03F9-3F17-4127-89A3-12C2B045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1DDB-F563-4B04-8519-6B5B026A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0325-681F-4626-84BF-9088799C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7503-D5CB-405D-BB3B-08410A769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C3FE-3487-40AC-A959-CC66311C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49E4-15AD-48CA-AEC7-DDB4A05E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00A-A512-4BDA-9569-ED3AAA06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5CC-C90C-4BCF-A1FB-0803D1E3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6AC-FCA7-4B1B-8E7E-0AFA78BA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F08E-FB80-4797-A97D-B84DA219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3D95-ED3C-4F55-81E4-8863008D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5B0-2967-47FE-856D-5C155D9F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EF8C-F8F1-44EF-BA85-894D7722EFF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1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Freeform 1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1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1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1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1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1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63A5-B604-4E40-A6CE-9E3B4470C571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3.bp.blogspot.com/_-Of4sYKZBGI/R_uK_Bud0II/AAAAAAAAAQg/XtnMFqVw4TE/s1600-h/huey_long_02.jp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history.sandiego.edu/cdr2/WW2Pics/04443.GIF" TargetMode="Externa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Franklin D. Roosevelt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and the New Deal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189160" y="5407200"/>
            <a:ext cx="6400800" cy="14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edefined Democracy: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Political Rights </a:t>
            </a:r>
            <a:r>
              <a:rPr b="1" lang="en-US" sz="2600" spc="-1" strike="noStrike">
                <a:solidFill>
                  <a:srgbClr val="ffffcc"/>
                </a:solidFill>
                <a:latin typeface="Wingdings"/>
                <a:ea typeface="Wingdings"/>
              </a:rPr>
              <a:t>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 Economic</a:t>
            </a:r>
            <a:br>
              <a:rPr sz="2600"/>
            </a:b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Security </a:t>
            </a:r>
            <a:r>
              <a:rPr b="1" lang="en-US" sz="2600" spc="-1" strike="noStrike">
                <a:solidFill>
                  <a:srgbClr val="ffffcc"/>
                </a:solidFill>
                <a:latin typeface="Wingdings"/>
                <a:ea typeface="Wingdings"/>
              </a:rPr>
              <a:t>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 Social Justic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8" name="Picture 6" descr="fdr"/>
          <p:cNvPicPr/>
          <p:nvPr/>
        </p:nvPicPr>
        <p:blipFill>
          <a:blip r:embed="rId1"/>
          <a:stretch/>
        </p:blipFill>
        <p:spPr>
          <a:xfrm>
            <a:off x="109440" y="4730760"/>
            <a:ext cx="1982880" cy="1994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635040" y="1109520"/>
            <a:ext cx="806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  <a:ea typeface="Arial"/>
              </a:rPr>
              <a:t>Agend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Bellwork: US History Formative Exam EOC or Thesis Stat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Videos: 1929 Stock Market Crash (History.com) and FDR Voice of Hope (History.co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2) PowerPoint New De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3) 4) Thinking Question (Exit Slip, if time): What was FDR’s best quality as president &amp; wh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  <a:ea typeface="Arial"/>
              </a:rPr>
              <a:t>HOMEWOR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: Reading Notes on Harlem Renaiss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166840" y="4457880"/>
            <a:ext cx="697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arning Goal: Students will be able to explain the purpose of the New De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Map of the Presidential Election of 1932."/>
          <p:cNvPicPr/>
          <p:nvPr/>
        </p:nvPicPr>
        <p:blipFill>
          <a:blip r:embed="rId1"/>
          <a:stretch/>
        </p:blipFill>
        <p:spPr>
          <a:xfrm>
            <a:off x="0" y="996840"/>
            <a:ext cx="9144000" cy="48294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946080" y="6027840"/>
            <a:ext cx="697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arning Goal: Students will be able to explain the purpose of the New De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946080" y="274680"/>
            <a:ext cx="73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ection of 193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6400" y="609120"/>
            <a:ext cx="86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ituation When FDR Entered Off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March 1933, the country was virtually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leaderles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the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banking system had collapse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4" descr="new deal3"/>
          <p:cNvPicPr/>
          <p:nvPr/>
        </p:nvPicPr>
        <p:blipFill>
          <a:blip r:embed="rId1"/>
          <a:stretch/>
        </p:blipFill>
        <p:spPr>
          <a:xfrm>
            <a:off x="10418760" y="2763720"/>
            <a:ext cx="1343160" cy="1095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54c45c20"/>
          <p:cNvPicPr/>
          <p:nvPr/>
        </p:nvPicPr>
        <p:blipFill>
          <a:blip r:embed="rId2"/>
          <a:stretch/>
        </p:blipFill>
        <p:spPr>
          <a:xfrm>
            <a:off x="5273640" y="1816200"/>
            <a:ext cx="344484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84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DR Restored Confide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2720" y="1218960"/>
            <a:ext cx="408924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In his inaugural address, he said </a:t>
            </a:r>
            <a:r>
              <a:rPr b="0" i="1" lang="ja-JP" sz="2800" spc="-1" strike="noStrike" u="sng">
                <a:solidFill>
                  <a:srgbClr val="ffc000"/>
                </a:solidFill>
                <a:uFillTx/>
                <a:latin typeface="Times New Roman"/>
              </a:rPr>
              <a:t>“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Times New Roman"/>
              </a:rPr>
              <a:t>The only thing we have to fear is fear itself….</a:t>
            </a:r>
            <a:r>
              <a:rPr b="0" i="1" lang="ja-JP" sz="2800" spc="-1" strike="noStrike" u="sng">
                <a:solidFill>
                  <a:srgbClr val="ffc000"/>
                </a:solidFill>
                <a:uFillTx/>
                <a:latin typeface="Times New Roman"/>
              </a:rPr>
              <a:t>”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promised vigorous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 leadership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bold actio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called for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disciplin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cooperatio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expressed his faith in democracy, and asked for divine protection and guidan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Picture 5" descr=" Inauguration of President Franklin Roosevelt."/>
          <p:cNvPicPr/>
          <p:nvPr/>
        </p:nvPicPr>
        <p:blipFill>
          <a:blip r:embed="rId1"/>
          <a:srcRect l="0" t="0" r="14935" b="0"/>
          <a:stretch/>
        </p:blipFill>
        <p:spPr>
          <a:xfrm>
            <a:off x="4289400" y="1633680"/>
            <a:ext cx="48546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5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DR</a:t>
            </a:r>
            <a:r>
              <a:rPr b="0" lang="ja-JP" sz="4400" spc="-1" strike="noStrike">
                <a:solidFill>
                  <a:srgbClr val="ffcc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 Personal Qualiti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8280" y="1028880"/>
            <a:ext cx="5067360" cy="56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was a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practical politicia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who practiced the art of the possib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was a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charismatic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person who exhibited a warmth and understanding of peop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knew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how to handle pres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by focusing attention on Washingt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provided dynamic leadership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in a time of crisi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was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willing to experi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5" descr="fdr2"/>
          <p:cNvPicPr/>
          <p:nvPr/>
        </p:nvPicPr>
        <p:blipFill>
          <a:blip r:embed="rId1"/>
          <a:srcRect l="0" t="723" r="0" b="0"/>
          <a:stretch/>
        </p:blipFill>
        <p:spPr>
          <a:xfrm>
            <a:off x="5384880" y="1150920"/>
            <a:ext cx="356076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23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urposes of the New De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193400"/>
            <a:ext cx="49370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</a:rPr>
              <a:t>Relief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 to provide jobs for the unemployed and to protect farmers from foreclos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</a:rPr>
              <a:t>Recovery: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 to get the economy back into high gear, </a:t>
            </a:r>
            <a:r>
              <a:rPr b="0" lang="ja-JP" sz="2800" spc="-1" strike="noStrike" u="sng">
                <a:solidFill>
                  <a:srgbClr val="ffffcc"/>
                </a:solidFill>
                <a:uFillTx/>
                <a:latin typeface="Times New Roman"/>
              </a:rPr>
              <a:t>“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priming the pump</a:t>
            </a:r>
            <a:r>
              <a:rPr b="0" lang="ja-JP" sz="2800" spc="-1" strike="noStrike" u="sng">
                <a:solidFill>
                  <a:srgbClr val="ffffcc"/>
                </a:solidFill>
                <a:uFillTx/>
                <a:latin typeface="Times New Roman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</a:rPr>
              <a:t>Reform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o regulate banks, to abolish child labor, and to conserve farm lan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</a:rPr>
              <a:t>Overall objective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: to save capitalism (America’s economic system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Picture 6" descr="coaz4d_im203"/>
          <p:cNvPicPr/>
          <p:nvPr/>
        </p:nvPicPr>
        <p:blipFill>
          <a:blip r:embed="rId1"/>
          <a:stretch/>
        </p:blipFill>
        <p:spPr>
          <a:xfrm>
            <a:off x="5232240" y="1357200"/>
            <a:ext cx="383544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urces of New Deal Ide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6680" y="923400"/>
            <a:ext cx="52308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Brains Trust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pecialists and experts, mostly college professors, idea m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New Economists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government spending, deficit spending and public works, government should prime economic pum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Roosevelt Cabinet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included conservatives, liberals, Democrats, Republicans, inflationists, anti-inflationists -- often conflicting, compromising, blending ide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5" descr="05-fdrandpacificwarcouncil5201943-398h"/>
          <p:cNvPicPr/>
          <p:nvPr/>
        </p:nvPicPr>
        <p:blipFill>
          <a:blip r:embed="rId1"/>
          <a:srcRect l="19999" t="0" r="18999" b="0"/>
          <a:stretch/>
        </p:blipFill>
        <p:spPr>
          <a:xfrm>
            <a:off x="5295960" y="1125360"/>
            <a:ext cx="3682800" cy="3713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5302080" y="4199040"/>
            <a:ext cx="366408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36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irst New Deal (1933-1934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71160" y="1280880"/>
            <a:ext cx="5352840" cy="52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Times New Roman"/>
              </a:rPr>
              <a:t>Emphasis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refor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Political Positio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conservativ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Times New Roman"/>
              </a:rPr>
              <a:t>Primary aim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economic recove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Philosophy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conomic nationalism and economic scarcity (i.e., raise prices by creating the illusion of scarcit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Times New Roman"/>
              </a:rPr>
              <a:t>Objectives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higher prices for agriculture and busi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Beneficiaries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ig business and agricultural busi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Picture 5" descr="FDR with CCC Enrollees"/>
          <p:cNvPicPr/>
          <p:nvPr/>
        </p:nvPicPr>
        <p:blipFill>
          <a:blip r:embed="rId1"/>
          <a:stretch/>
        </p:blipFill>
        <p:spPr>
          <a:xfrm>
            <a:off x="5537160" y="1434960"/>
            <a:ext cx="353844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ational Recovery Act (NRA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58640"/>
            <a:ext cx="4152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urpose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very of indust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eated a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artnership of business, labor, and governmen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attack the depression with such measures as price controls, high wages, and codes of fair compet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5" descr="NRAposter1933"/>
          <p:cNvPicPr/>
          <p:nvPr/>
        </p:nvPicPr>
        <p:blipFill>
          <a:blip r:embed="rId1"/>
          <a:srcRect l="3075" t="4812" r="6151" b="3849"/>
          <a:stretch/>
        </p:blipFill>
        <p:spPr>
          <a:xfrm>
            <a:off x="10096560" y="2114640"/>
            <a:ext cx="639720" cy="817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http://www.arago.si.edu/media/000/005/880/5880_lg.jpg"/>
          <p:cNvPicPr/>
          <p:nvPr/>
        </p:nvPicPr>
        <p:blipFill>
          <a:blip r:embed="rId2"/>
          <a:stretch/>
        </p:blipFill>
        <p:spPr>
          <a:xfrm>
            <a:off x="4867200" y="1517760"/>
            <a:ext cx="41068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First Agricultural Adjustment Act (AAA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6680" y="1088640"/>
            <a:ext cx="431496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imes New Roman"/>
              </a:rPr>
              <a:t>Purpose: 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the recovery of agriculture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26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imes New Roman"/>
              </a:rPr>
              <a:t>Paid farmers who agreed to reduce production 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of basic crops such as cotton, wheat, tobacco, hogs, and corn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26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Money came from </a:t>
            </a:r>
            <a:r>
              <a:rPr b="0" lang="en-US" sz="2900" spc="-1" strike="noStrike">
                <a:solidFill>
                  <a:srgbClr val="ffc000"/>
                </a:solidFill>
                <a:latin typeface="Times New Roman"/>
              </a:rPr>
              <a:t>a tax on processors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 such as flour millers and meat packers who </a:t>
            </a:r>
            <a:r>
              <a:rPr b="0" lang="en-US" sz="2900" spc="-1" strike="noStrike">
                <a:solidFill>
                  <a:srgbClr val="ffc000"/>
                </a:solidFill>
                <a:latin typeface="Times New Roman"/>
              </a:rPr>
              <a:t>passed the cost on to the consumer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Picture 5" descr="water1101"/>
          <p:cNvPicPr/>
          <p:nvPr/>
        </p:nvPicPr>
        <p:blipFill>
          <a:blip r:embed="rId1"/>
          <a:stretch/>
        </p:blipFill>
        <p:spPr>
          <a:xfrm>
            <a:off x="4530600" y="1303200"/>
            <a:ext cx="443232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312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Federal Emergency Relief Admin (FERA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492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urpose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relief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ave money to states and municipalities so they could distribute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money, clothing, and food to the unemploy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Picture 5" descr="clothingdistribution"/>
          <p:cNvPicPr/>
          <p:nvPr/>
        </p:nvPicPr>
        <p:blipFill>
          <a:blip r:embed="rId1"/>
          <a:srcRect l="0" t="0" r="0" b="13631"/>
          <a:stretch/>
        </p:blipFill>
        <p:spPr>
          <a:xfrm>
            <a:off x="4383000" y="1622520"/>
            <a:ext cx="453564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3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P Review Ques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Picture 4" descr="Screen Shot 2012-01-05 at 6.54.34 AM.pn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ivilian Conservation Corp (CCC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37717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urpose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lief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ave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outdoor work to unemployed me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tween the ages of 17 and 2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received $30 per month, but $22 went back to the fami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Picture 6" descr="yellowocc_2"/>
          <p:cNvPicPr/>
          <p:nvPr/>
        </p:nvPicPr>
        <p:blipFill>
          <a:blip r:embed="rId1"/>
          <a:srcRect l="0" t="687" r="0" b="0"/>
          <a:stretch/>
        </p:blipFill>
        <p:spPr>
          <a:xfrm>
            <a:off x="4672080" y="1149480"/>
            <a:ext cx="398628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77724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econd New Deal (1934-1941)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06280" y="1144440"/>
            <a:ext cx="499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Emphasis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refor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Political Position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ber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Primary aim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permanent reform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Philosophy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ernational economic cooperation and economic abund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Objectiv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increased purchasing power and social security for publ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Beneficiari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small farmers and lab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Picture 4" descr="http://riverdaughter.files.wordpress.com/2009/02/socialsecurityactfdr.jpg"/>
          <p:cNvPicPr/>
          <p:nvPr/>
        </p:nvPicPr>
        <p:blipFill>
          <a:blip r:embed="rId1"/>
          <a:stretch/>
        </p:blipFill>
        <p:spPr>
          <a:xfrm>
            <a:off x="4660920" y="1287360"/>
            <a:ext cx="428796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136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cial Security Ac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60240" y="1389240"/>
            <a:ext cx="416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urpose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fo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ave money to states for aid to dependent children, established unemployment insurance through payroll deduction, set up old-age pensions for retire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Picture 2" descr="http://www.ssa.gov/history/pics/idamay5.jpg"/>
          <p:cNvPicPr/>
          <p:nvPr/>
        </p:nvPicPr>
        <p:blipFill>
          <a:blip r:embed="rId1"/>
          <a:stretch/>
        </p:blipFill>
        <p:spPr>
          <a:xfrm>
            <a:off x="4648320" y="1555920"/>
            <a:ext cx="4417920" cy="46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9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ational Labor Relations Ac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60280" y="1440000"/>
            <a:ext cx="387360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urpose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fo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t restraints on employers and set up a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National Labor Relations Boar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protect the rights of organized labor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to bargain collectivel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th employ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9" name="Picture 2" descr="http://cache.gettyimages.com/xc/3109224.jpg?v=1&amp;c=ViewImages&amp;k=2&amp;d=45BAE66225B176A18015C034720A6662A55A1E4F32AD3138"/>
          <p:cNvPicPr/>
          <p:nvPr/>
        </p:nvPicPr>
        <p:blipFill>
          <a:blip r:embed="rId1"/>
          <a:srcRect l="0" t="0" r="0" b="11274"/>
          <a:stretch/>
        </p:blipFill>
        <p:spPr>
          <a:xfrm>
            <a:off x="4187880" y="1674720"/>
            <a:ext cx="48020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4080" y="609120"/>
            <a:ext cx="898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econd Agricultural Adjustment Act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99520" y="1787400"/>
            <a:ext cx="378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rpose: recovery for agricul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id farmers for conservation practices, but only if they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restricted production of staple crop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Picture 2" descr="http://stfm.astate.edu/images/75-blytheville.jpg"/>
          <p:cNvPicPr/>
          <p:nvPr/>
        </p:nvPicPr>
        <p:blipFill>
          <a:blip r:embed="rId1"/>
          <a:stretch/>
        </p:blipFill>
        <p:spPr>
          <a:xfrm>
            <a:off x="4235400" y="1943280"/>
            <a:ext cx="47419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U.S. Housing Author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8400" y="1878120"/>
            <a:ext cx="4002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urpose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very and refo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d federal funds to tear down slums and construct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better hous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Picture 4" descr="Slum_camden_1938"/>
          <p:cNvPicPr/>
          <p:nvPr/>
        </p:nvPicPr>
        <p:blipFill>
          <a:blip r:embed="rId1"/>
          <a:stretch/>
        </p:blipFill>
        <p:spPr>
          <a:xfrm>
            <a:off x="4508640" y="2114640"/>
            <a:ext cx="44161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356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The New Deal on Tri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1935,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olitical disunit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as evident. There were critics on the right and the lef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Picture 2" descr="Freedom On Trial"/>
          <p:cNvPicPr/>
          <p:nvPr/>
        </p:nvPicPr>
        <p:blipFill>
          <a:blip r:embed="rId1"/>
          <a:stretch/>
        </p:blipFill>
        <p:spPr>
          <a:xfrm>
            <a:off x="4765680" y="2031840"/>
            <a:ext cx="3333600" cy="33433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4"/>
          <p:cNvSpPr/>
          <p:nvPr/>
        </p:nvSpPr>
        <p:spPr>
          <a:xfrm>
            <a:off x="5203800" y="3670200"/>
            <a:ext cx="1119240" cy="2531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7a7e"/>
                </a:solidFill>
                <a:latin typeface="Bernard MT Condensed"/>
              </a:rPr>
              <a:t>NEW DEA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-22680"/>
            <a:ext cx="935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riticisms of Conservative Oppon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96640" y="1095480"/>
            <a:ext cx="8615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servative opponents said the New Deal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went too f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was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socialism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killed individualism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added to the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national debt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$35 billi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wasted money on relief and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encouraged idle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violated the constitution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&amp; states righ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increased the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power of the </a:t>
            </a:r>
            <a:br>
              <a:rPr sz="2800"/>
            </a:b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Presidency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FDR was reaching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ward dictatorship, Congress a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ubber stamp, independence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f judiciary threatened,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paration of powers shattere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2" name="Picture 4" descr="http://fratres.files.wordpress.com/2008/11/socialism1.jpg"/>
          <p:cNvPicPr/>
          <p:nvPr/>
        </p:nvPicPr>
        <p:blipFill>
          <a:blip r:embed="rId1"/>
          <a:stretch/>
        </p:blipFill>
        <p:spPr>
          <a:xfrm>
            <a:off x="6089760" y="3705120"/>
            <a:ext cx="252576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imary v. Secondary Sour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ues…..look at the source, look at the d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s of Primary: Speeches, Photographs, Pic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s of Secondary: Someone else criticizing or praising an event, a second-hand accou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ti-New Deal Organiz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23600" y="154296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servative opponents to the New Deal had an organization called the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American Liberty Leagu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They had money but were small in numbers, so FDR was not worri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" name="Picture 2" descr="http://www.hsd.org/MuseumExhibits/Schoonover_06/Schoonover.gif"/>
          <p:cNvPicPr/>
          <p:nvPr/>
        </p:nvPicPr>
        <p:blipFill>
          <a:blip r:embed="rId1"/>
          <a:srcRect l="5723" t="18425" r="41362" b="22877"/>
          <a:stretch/>
        </p:blipFill>
        <p:spPr>
          <a:xfrm>
            <a:off x="5118120" y="1674720"/>
            <a:ext cx="331956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ellwork: Thesis Statement Promp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98440" y="1981080"/>
            <a:ext cx="866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The 1920s was just an ordinary, boring decade in American History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gree or Disagree (DO NOT say “I Agree” or “Disagree.” Come up with an interesting statement about the 1920s [Take a position]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2 specific, historical examples and offer a brief reason why those 2 examples make your position a good pos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1360" y="22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riticisms of Radical Oppon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703760" y="1646280"/>
            <a:ext cx="405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dical opponents said the New Deal did not go far enough. They were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demagogu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rabble-rousers) and had popular followings, so FDR was concern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2" descr="http://www.smh.com.au/ffximage/2008/12/16/webster_narrowweb__300x359,0.jpg"/>
          <p:cNvPicPr/>
          <p:nvPr/>
        </p:nvPicPr>
        <p:blipFill>
          <a:blip r:embed="rId1"/>
          <a:stretch/>
        </p:blipFill>
        <p:spPr>
          <a:xfrm>
            <a:off x="450720" y="1620720"/>
            <a:ext cx="4092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enator Huey Long (LA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3720" y="1145880"/>
            <a:ext cx="48308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nator Huey Long said New Deal relief measures were mere crumbs and advocated  a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share the wealth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n (i.e., a guaranteed annual income of at least $5,000 for every American, financed by confiscating wealth of people who made over $5 million per year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3" name="Picture 2" descr="http://3.bp.blogspot.com/_-Of4sYKZBGI/R_uK_Bud0II/AAAAAAAAAQg/XtnMFqVw4TE/s320/huey_long_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46840" y="1351080"/>
            <a:ext cx="394308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ather Charles E. Coughl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7800" y="1080720"/>
            <a:ext cx="497196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ther Charles Coughlin wa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 rabble-rousing radio priest from Detroit. His  broadcasts were called the </a:t>
            </a:r>
            <a:r>
              <a:rPr b="0" lang="ja-JP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olden Hour of the Little Flower.</a:t>
            </a:r>
            <a:r>
              <a:rPr b="0" lang="ja-JP" sz="2800" spc="-1" strike="noStrike">
                <a:solidFill>
                  <a:srgbClr val="ffffcc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He claimed there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was an international bankers conspiracy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d Jews were responsible. He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advocated nationalization of banking and currency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d national resources and demanded a </a:t>
            </a:r>
            <a:r>
              <a:rPr b="0" lang="ja-JP" sz="2800" spc="-1" strike="noStrike">
                <a:solidFill>
                  <a:srgbClr val="ffc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living wage.</a:t>
            </a:r>
            <a:r>
              <a:rPr b="0" lang="ja-JP" sz="2800" spc="-1" strike="noStrike">
                <a:solidFill>
                  <a:srgbClr val="ffc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6" name="Picture 4" descr="charles_coughlin_01"/>
          <p:cNvPicPr/>
          <p:nvPr/>
        </p:nvPicPr>
        <p:blipFill>
          <a:blip r:embed="rId1"/>
          <a:stretch/>
        </p:blipFill>
        <p:spPr>
          <a:xfrm>
            <a:off x="5024520" y="1262160"/>
            <a:ext cx="401148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5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r. Francis E. Townsen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7040" y="1107720"/>
            <a:ext cx="46245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. Francis E. Townsend was an elderly physician from CA. He had a plan for the federal government to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pay $200 per month to unemployed people over 60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The program would be financed by a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2% national sales tax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nd each pensioner would be required to spend the money in 30 days. This would stimulate the econom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9" name="Picture 5" descr="townsend1"/>
          <p:cNvPicPr/>
          <p:nvPr/>
        </p:nvPicPr>
        <p:blipFill>
          <a:blip r:embed="rId1"/>
          <a:srcRect l="7788" t="5583" r="7759" b="12248"/>
          <a:stretch/>
        </p:blipFill>
        <p:spPr>
          <a:xfrm>
            <a:off x="4932360" y="1236600"/>
            <a:ext cx="373536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3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Moderate Legislation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0000" y="1055520"/>
            <a:ext cx="8912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DR sponsored moderate legislation to silence radical opposi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Revenue Act of 1935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 Response to Huey Long. Increased taxes on large incomes and corpora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Banking Act of 1935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 Response to Coughlin. Extended federal control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ver private banking practic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Social Security Act of 1935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ponse to Townsend.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cluded provisions for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employables (dependent children, the disabled, blind), unemployment insurance, and old-age pens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2" name="Picture 9" descr="59a59c40"/>
          <p:cNvPicPr/>
          <p:nvPr/>
        </p:nvPicPr>
        <p:blipFill>
          <a:blip r:embed="rId1"/>
          <a:stretch/>
        </p:blipFill>
        <p:spPr>
          <a:xfrm>
            <a:off x="5519880" y="3537000"/>
            <a:ext cx="34304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60240" y="24876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Election of 1936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197000"/>
            <a:ext cx="5087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The Election of 1936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Made the Democratic party the </a:t>
            </a:r>
            <a:r>
              <a:rPr b="0" lang="en-US" sz="3000" spc="-1" strike="noStrike">
                <a:solidFill>
                  <a:srgbClr val="ffc000"/>
                </a:solidFill>
                <a:latin typeface="Times New Roman"/>
              </a:rPr>
              <a:t>majority party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reated a</a:t>
            </a:r>
            <a:r>
              <a:rPr b="0" lang="en-US" sz="3000" spc="-1" strike="noStrike">
                <a:solidFill>
                  <a:srgbClr val="ffc000"/>
                </a:solidFill>
                <a:latin typeface="Times New Roman"/>
              </a:rPr>
              <a:t> new Democratic coalition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omposed of both traditional elements and new element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Showed that the </a:t>
            </a:r>
            <a:r>
              <a:rPr b="0" lang="en-US" sz="3000" spc="-1" strike="noStrike">
                <a:solidFill>
                  <a:srgbClr val="ffc000"/>
                </a:solidFill>
                <a:latin typeface="Times New Roman"/>
              </a:rPr>
              <a:t>American people rejected radical solutions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to depression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5" name="Picture 2" descr="http://www.authentichistory.com/1930s/fdr/rally01.jpg"/>
          <p:cNvPicPr/>
          <p:nvPr/>
        </p:nvPicPr>
        <p:blipFill>
          <a:blip r:embed="rId1"/>
          <a:stretch/>
        </p:blipFill>
        <p:spPr>
          <a:xfrm>
            <a:off x="4987800" y="1378080"/>
            <a:ext cx="396396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www.historycentral.com/elections/1936PresElect.jpg"/>
          <p:cNvPicPr/>
          <p:nvPr/>
        </p:nvPicPr>
        <p:blipFill>
          <a:blip r:embed="rId1"/>
          <a:stretch/>
        </p:blipFill>
        <p:spPr>
          <a:xfrm>
            <a:off x="0" y="579600"/>
            <a:ext cx="92106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334800" y="1055520"/>
          <a:ext cx="8589960" cy="5437440"/>
        </p:xfrm>
        <a:graphic>
          <a:graphicData uri="http://schemas.openxmlformats.org/drawingml/2006/table">
            <a:tbl>
              <a:tblPr/>
              <a:tblGrid>
                <a:gridCol w="2794320"/>
                <a:gridCol w="2022480"/>
                <a:gridCol w="2189160"/>
                <a:gridCol w="1584000"/>
              </a:tblGrid>
              <a:tr h="1268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Candidat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Part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% Popular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Vot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Electoral Vote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820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FD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Democratic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0.3%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2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820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Alfred E. Landon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Republica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6.56%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820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William Lemk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Radica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93%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853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Norman Thomas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Socialis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41% 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(2.21 in 1932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853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Earl Browder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ommunis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17 (0.25 in 1932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3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Election of 1936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-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Roosevelt Coali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888840"/>
            <a:ext cx="513864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ile Republicans were still relying on their traditional base of political support (big business, big farmers, and conservatives), Democrats broadened their constituency by appealing to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small farmer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Midwest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, urban political bosses, ethnic blue collar workers, Jews, intellectuals, and African American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1" name="Picture 11" descr="04443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45200" y="1109520"/>
            <a:ext cx="3654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Protection of New Deal Accomplishment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240" y="1017720"/>
            <a:ext cx="5783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eps FDR took to protect New Deal accomplishments (both failed)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Court-Packing Plan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proposed increasing Supreme Court from 9 to 15 members, caused in revolt in Dem. Part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Purge of the Democratic Party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the Election of 1938 (came out strongly in favor of liberal Dem. Candidates,  evidence that he interfered in a state campaign, Republicans gained strength in both houses of Congres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4" name="Picture 2" descr="http://www.laphamsquarterly.org/photos/court_packing_fdr.jpg"/>
          <p:cNvPicPr/>
          <p:nvPr/>
        </p:nvPicPr>
        <p:blipFill>
          <a:blip r:embed="rId1"/>
          <a:stretch/>
        </p:blipFill>
        <p:spPr>
          <a:xfrm>
            <a:off x="5756400" y="1182600"/>
            <a:ext cx="33876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uses of the Great Depre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080" y="151776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gricultural overprodu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Industrial overprodu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Unequal distribution of weal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Over-extension of cred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International economic situ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Picture 8" descr="acoffee"/>
          <p:cNvPicPr/>
          <p:nvPr/>
        </p:nvPicPr>
        <p:blipFill>
          <a:blip r:embed="rId1"/>
          <a:srcRect l="0" t="1184" r="37002" b="0"/>
          <a:stretch/>
        </p:blipFill>
        <p:spPr>
          <a:xfrm>
            <a:off x="5045040" y="1558800"/>
            <a:ext cx="378792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560" y="261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cc00"/>
                </a:solidFill>
                <a:latin typeface="Times New Roman"/>
              </a:rPr>
              <a:t>Decline of New Deal Reform after 1937</a:t>
            </a:r>
            <a:endParaRPr b="0" lang="en-US" sz="43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38120" y="1455840"/>
            <a:ext cx="848664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sons for decline of New Deal reform after 1937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Court-packing plan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Congress irritab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Recession of 1937-38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akened confidence in New Deal measures. Republicans gained strength in both hous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Attempted purge of Democratic party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il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Conservative Democra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re elected to office. Resentful of attempted party purge, they joined ranks with Republicans to block New Deal legisl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creasing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focus on foreign affai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96960" y="23461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The Significance of </a:t>
            </a:r>
            <a:br>
              <a:rPr sz="5400"/>
            </a:b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the New Deal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5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ysical Rehabilitation of Count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34440" y="1542600"/>
            <a:ext cx="49071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ttacked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soil ero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Built dams and planted tree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 prevent flo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Reclaimed the grassland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f the Great 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Developed water power resour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couraged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regional reconstruction project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like the TVA and Columbia River projec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0" name="Picture 4" descr="http://www.waterencyclopedia.com/images/wsci_01_img0061.jpg"/>
          <p:cNvPicPr/>
          <p:nvPr/>
        </p:nvPicPr>
        <p:blipFill>
          <a:blip r:embed="rId1"/>
          <a:stretch/>
        </p:blipFill>
        <p:spPr>
          <a:xfrm>
            <a:off x="5267160" y="1751040"/>
            <a:ext cx="36705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6560" y="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uman Rehabilit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0760" y="1030320"/>
            <a:ext cx="4932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tablished the principle that government has responsibility for the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health, welfare, and securit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as well as the protection and education of its citize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mbraced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social security, public health, hou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tered the domain of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agriculture and lab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3" name="Picture 2" descr="http://indiana.bilerico.com/2008/12/new_deal_large.jpg"/>
          <p:cNvPicPr/>
          <p:nvPr/>
        </p:nvPicPr>
        <p:blipFill>
          <a:blip r:embed="rId1"/>
          <a:srcRect l="10079" t="0" r="0" b="0"/>
          <a:stretch/>
        </p:blipFill>
        <p:spPr>
          <a:xfrm>
            <a:off x="4906800" y="1300320"/>
            <a:ext cx="40309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vitalization of Politic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3160" y="1646280"/>
            <a:ext cx="450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engthened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executive bran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asserted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residential leadershi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Revitalized political part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 a vehicle for the popular will and as an instrument for effective 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6" name="Picture 2" descr="http://1.bp.blogspot.com/_sjmxrHygBno/SSvKCHp75bI/AAAAAAAACC4/oyB4RjIgIXg/s400/FDR+campaigning.gif"/>
          <p:cNvPicPr/>
          <p:nvPr/>
        </p:nvPicPr>
        <p:blipFill>
          <a:blip r:embed="rId1"/>
          <a:srcRect l="4819" t="6611" r="32278" b="10794"/>
          <a:stretch/>
        </p:blipFill>
        <p:spPr>
          <a:xfrm>
            <a:off x="4745160" y="1895400"/>
            <a:ext cx="4146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98400" y="19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tension of Democra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25520" y="1327320"/>
            <a:ext cx="428760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Redefined the concept of democrac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 that it included not only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olitical right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economic securit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social justic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 we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9" name="Picture 5" descr="new_deal_wpa"/>
          <p:cNvPicPr/>
          <p:nvPr/>
        </p:nvPicPr>
        <p:blipFill>
          <a:blip r:embed="rId1"/>
          <a:stretch/>
        </p:blipFill>
        <p:spPr>
          <a:xfrm>
            <a:off x="5022720" y="1444680"/>
            <a:ext cx="34959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20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aintenance of a Democratic System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236600"/>
            <a:ext cx="5151600" cy="54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New Deal maintained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a democratic system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f government and society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in a world threatened by totalitarianis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Increased size and scope of government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meet needs of the depress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Provided the leadership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at enabled Congress to put through the necessary relief, recovery, and reform measur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Sponsored moderate legislation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neutralize the popularity of radical opponents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2" name="Picture 2" descr="http://biglizards.net/Graphics/ForegroundPix/White_House.JPG"/>
          <p:cNvPicPr/>
          <p:nvPr/>
        </p:nvPicPr>
        <p:blipFill>
          <a:blip r:embed="rId1"/>
          <a:stretch/>
        </p:blipFill>
        <p:spPr>
          <a:xfrm>
            <a:off x="5162400" y="1479600"/>
            <a:ext cx="37245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http://blog.heritage.org/wp-content/uploads/2009/01/new-deal-unemployment1.jpg"/>
          <p:cNvPicPr/>
          <p:nvPr/>
        </p:nvPicPr>
        <p:blipFill>
          <a:blip r:embed="rId1"/>
          <a:stretch/>
        </p:blipFill>
        <p:spPr>
          <a:xfrm>
            <a:off x="733320" y="47520"/>
            <a:ext cx="784404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blog.heritage.org/wp-content/uploads/2009/01/ndchart.JPG"/>
          <p:cNvPicPr/>
          <p:nvPr/>
        </p:nvPicPr>
        <p:blipFill>
          <a:blip r:embed="rId1"/>
          <a:stretch/>
        </p:blipFill>
        <p:spPr>
          <a:xfrm>
            <a:off x="1004760" y="154080"/>
            <a:ext cx="722484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Depression-GDP-output-1.gif"/>
          <p:cNvPicPr/>
          <p:nvPr/>
        </p:nvPicPr>
        <p:blipFill>
          <a:blip r:embed="rId1"/>
          <a:stretch/>
        </p:blipFill>
        <p:spPr>
          <a:xfrm>
            <a:off x="2033640" y="0"/>
            <a:ext cx="530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2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How Herbert Hoover Dealt with the Crisi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58720" y="1620720"/>
            <a:ext cx="4292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He played the game of confidence economics and just kept saying: </a:t>
            </a:r>
            <a:r>
              <a:rPr b="0" lang="ja-JP" sz="3200" spc="-1" strike="noStrike" u="sng">
                <a:solidFill>
                  <a:srgbClr val="ffffcc"/>
                </a:solidFill>
                <a:uFillTx/>
                <a:latin typeface="Times New Roman"/>
              </a:rPr>
              <a:t>“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Prosperity is right around the corner.</a:t>
            </a:r>
            <a:r>
              <a:rPr b="0" lang="ja-JP" sz="3200" spc="-1" strike="noStrike" u="sng">
                <a:solidFill>
                  <a:srgbClr val="ffffcc"/>
                </a:solidFill>
                <a:uFillTx/>
                <a:latin typeface="Times New Roman"/>
              </a:rPr>
              <a:t>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7" descr="1101391218_400"/>
          <p:cNvPicPr/>
          <p:nvPr/>
        </p:nvPicPr>
        <p:blipFill>
          <a:blip r:embed="rId1"/>
          <a:stretch/>
        </p:blipFill>
        <p:spPr>
          <a:xfrm>
            <a:off x="5070600" y="1606680"/>
            <a:ext cx="380988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Depression-GDP-output-2.gif"/>
          <p:cNvPicPr/>
          <p:nvPr/>
        </p:nvPicPr>
        <p:blipFill>
          <a:blip r:embed="rId1"/>
          <a:stretch/>
        </p:blipFill>
        <p:spPr>
          <a:xfrm>
            <a:off x="2008080" y="0"/>
            <a:ext cx="530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overnment Expenditur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96640" y="1157400"/>
            <a:ext cx="8847000" cy="55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total cost of the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current bailout now exceeds $4.6 trillion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llars. It has cost more than all of these government expenditures combined. Figures in parentheses have been adjusted for inflatio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arshall Pla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Cost: $12.7 billion ($115.3 bill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ouisiana Purchas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Cost: $15 million ($217 bill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ace to the Moo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Cost: $36.4 billion ($237 bill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&amp;L Crisi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Cost: $153 billion ($256 bill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Korean Wa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Cost: $54 billion ($454 bill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The New Deal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: Cost: $32 billion est.($500 billion est.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vasion of Iraq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Cost: $551billion ($597 bill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Vietnam Wa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Cost: $111 billion ($698 bill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AS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Cost: $416.7 billion ($851.2 bill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TOTAL: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$3.92 trill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0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oluntary Measur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282680"/>
            <a:ext cx="617220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over eventually established two privately-funded organization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he National Credit Associatio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provided $1/2 billion to businesses for emergency loans, but it was too under-funded to do much goo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he Organization for Unemployment Relief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was a clearing house for relief agencies. However, state and local governments were already in too much debt to benefit from i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029360" y="1139760"/>
            <a:ext cx="1710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imited Government Interven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3480" y="1409400"/>
            <a:ext cx="635004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end, Hoover resorted to government interven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he Reconstruction Finance Corp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gave $1-1/2 billion in federal loans to banks, insurance companies, and industry to prevent bankruptcies, but it was too little, too la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he Home Loan Bank Ac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provided federal loans to homeowners to prevent foreclosures, but got bogged down in red tap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6878520" y="1123920"/>
            <a:ext cx="16909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sons for Ineffectivenes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7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over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ought business should be self-regulat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 had a mania for a balanced budg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 lacked political fines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5" descr="lect1_6"/>
          <p:cNvPicPr/>
          <p:nvPr/>
        </p:nvPicPr>
        <p:blipFill>
          <a:blip r:embed="rId1"/>
          <a:stretch/>
        </p:blipFill>
        <p:spPr>
          <a:xfrm>
            <a:off x="4416480" y="2030400"/>
            <a:ext cx="4524480" cy="38656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920880" y="6027840"/>
            <a:ext cx="69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arning Goal: Students will be able to explain the purpose of the New De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5760" y="1519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ranklin D. Roosevelt</a:t>
            </a:r>
            <a:r>
              <a:rPr b="0" lang="ja-JP" sz="4400" spc="-1" strike="noStrike">
                <a:solidFill>
                  <a:srgbClr val="ffcc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 Appeal/Election of 193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359000"/>
            <a:ext cx="436860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In 1932 presidential election,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Times New Roman"/>
              </a:rPr>
              <a:t>FDR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 was perceived as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Times New Roman"/>
              </a:rPr>
              <a:t>a man of action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Times New Roman"/>
              </a:rPr>
              <a:t>Hoover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 was viewed as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Times New Roman"/>
              </a:rPr>
              <a:t>a </a:t>
            </a:r>
            <a:r>
              <a:rPr b="0" lang="ja-JP" sz="2800" spc="-1" strike="noStrike" u="sng">
                <a:solidFill>
                  <a:srgbClr val="ffc000"/>
                </a:solidFill>
                <a:uFillTx/>
                <a:latin typeface="Times New Roman"/>
              </a:rPr>
              <a:t>“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Times New Roman"/>
              </a:rPr>
              <a:t>do-nothing president.</a:t>
            </a:r>
            <a:r>
              <a:rPr b="0" lang="ja-JP" sz="2800" spc="-1" strike="noStrike" u="sng">
                <a:solidFill>
                  <a:srgbClr val="ffc000"/>
                </a:solidFill>
                <a:uFillTx/>
                <a:latin typeface="Times New Roman"/>
              </a:rPr>
              <a:t>”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Norman Thom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the Socialist candidate, was viewed as a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radica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ults: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a landslide for Democra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d a mandate to use government as an agency for human welfa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10" descr="lect2_6"/>
          <p:cNvPicPr/>
          <p:nvPr/>
        </p:nvPicPr>
        <p:blipFill>
          <a:blip r:embed="rId1"/>
          <a:stretch/>
        </p:blipFill>
        <p:spPr>
          <a:xfrm>
            <a:off x="4911840" y="1349280"/>
            <a:ext cx="404316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7:46:24Z</dcterms:created>
  <dc:creator>Edrene S. McKay</dc:creator>
  <dc:description/>
  <dc:language>en-US</dc:language>
  <cp:lastModifiedBy>Mark Scacewater</cp:lastModifiedBy>
  <dcterms:modified xsi:type="dcterms:W3CDTF">2014-01-20T19:03:44Z</dcterms:modified>
  <cp:revision>144</cp:revision>
  <dc:subject/>
  <dc:title>Franklin D. Roosevelt and the New Deal</dc:title>
</cp:coreProperties>
</file>